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Merge</a:t>
            </a:r>
            <a:r>
              <a:rPr b="0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 per l’ambiente operativo Solaris</a:t>
            </a:r>
            <a:r>
              <a:rPr b="0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 x86 </a:t>
            </a:r>
            <a:br>
              <a:rPr sz="1800"/>
            </a:br>
            <a:r>
              <a:rPr b="0" i="1" lang="en-US" sz="2200" spc="-1" strike="noStrike">
                <a:solidFill>
                  <a:srgbClr val="f6bf69"/>
                </a:solidFill>
                <a:latin typeface="Arial"/>
                <a:ea typeface="Arial"/>
              </a:rPr>
              <a:t>Eseguire le applicazioni per MS-DOS su Int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52388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e per l’ambiente operativo Solaris x86 mette a disposizione la potente combinazione degli ambienti Solaris ed 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zie a Merge, gli utenti di Solaris x86 possono accedere a centinaia di applicazioni standard per 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e supporta inoltre le applicazioni per Microsoft Windows oltre alle applicazioni presenti nell’elenco certificato del software Wab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81480" y="1523880"/>
            <a:ext cx="373392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 ulteriori informazioni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Merge, chiamare il numero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12/434-1511, premere #1. In alternativa, accedere al nostro indirizzo su World Wide Web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sun.com/sunsoft/Products/PC-Integration-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81480" y="4495680"/>
            <a:ext cx="3733920" cy="21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 informazioni su come acquistar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e, chiamare il numero 512/434-1511, premere #2. In alternativa, rivolgersi al rivenditore Sun loca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