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för operativmiljön Solaris</a:t>
            </a:r>
            <a:r>
              <a:rPr b="0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x86</a:t>
            </a:r>
            <a:br>
              <a:rPr sz="1800"/>
            </a:br>
            <a:r>
              <a:rPr b="0" i="1" lang="en-US" sz="2200" spc="-1" strike="noStrike">
                <a:solidFill>
                  <a:srgbClr val="f6bf69"/>
                </a:solidFill>
                <a:latin typeface="Arial"/>
                <a:ea typeface="Arial"/>
              </a:rPr>
              <a:t>Kör dina MS-DOS- och Windows-program på Int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för operativmiljön Solaris x86 kombinerar kraften hos Solaris- och MS-DOS- eller Windows-miljö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 Merge har de som använder Solaris x86 tillgång till tusentals färdiga MS-DOS-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stöder också fler Microsoft Windows- program än de som finns i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gramvarans certifierade l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29280" y="3057480"/>
            <a:ext cx="3957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r informatio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m Merge, ring 512/434-1511, tryck på 2. Eller gå till World Wide Web på: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29280" y="4984920"/>
            <a:ext cx="373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ör att beställ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, ring 512/434-1511, tryck på 2. Eller kontakta närmast Apple-återförsälj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29280" y="1584360"/>
            <a:ext cx="3835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S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erge finns bara på engelska men stöder lokaliserade versioner av MS-DOS, Microsoft Windows och progr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