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écute vos applications MS-DOS sur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constitue, pour les utilisateurs SPARC, la solu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ur exécuter les applications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lus, SunPC accepte plus d'applications Microsoft Windows que n'en comporte la liste de logiciels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accepte les protocoles réseau pour PC les plus répandus, notamment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62400" y="1252440"/>
            <a:ext cx="36957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ponible en anglais uniquement, SunPC accepte toutefois les versions localisées de MS-DOS, Microsoft Windows et des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05520" y="4998960"/>
            <a:ext cx="3657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ache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PC, appelez 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/434-1511 et composez le 2. Vous pouvez aussi contacter votre revendeur Sun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05520" y="2971800"/>
            <a:ext cx="3930480" cy="25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 appelez le 512/434-1511 et composez le 1. Vous pouvez aussi accéder à notre site World Wide Web a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