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34880" y="152280"/>
            <a:ext cx="84297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intosh Application Environment™ 2.0 (MAE)</a:t>
            </a:r>
            <a:br>
              <a:rPr sz="1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 Macintosh virtual para sistemas abi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601640"/>
            <a:ext cx="465768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ejecutar aplicaciones Macintosh® en su estación de trabajo SPARC utilizando Solaris 2.3 o 2.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le brinda un completo entorno Sistema 7.1, con Finder inclui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 incluye soporte de AppleTalk, mejoras de rendimiento, Mac TCP, sonido y mucho má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6520" y="1601640"/>
            <a:ext cx="39434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sólo está disponible en inglés, pero admite versiones localizadas de aplicaciones Macinto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ás informació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 2.0, acceda a la dirección Web de MAE en UR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e.apple.c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a la dirección ftp de MAE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.support.apple.com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rectorio /pub/mae). Puede obtener un ejemplar de prueba de MAE 1.0 en el actual SunSoft Catalyst CDWare™ para SPARC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43400" y="502776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adquiri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E, póngase en contacto con su distribuidor Apple más cer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